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F553-0A29-410C-8D78-1C3A33D75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E33B-9C35-4A5A-A57E-3EAB88F5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1236-3167-44A0-A9D5-4F96ADB23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819F-6922-43D8-AD26-1DFCBF757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EA25-2CA5-4ADD-A817-CC795921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5952-22DD-430D-9A9C-54BD9E4C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35B6-E9FF-422D-901E-5AB36230A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5D3F-815E-4DB8-B37F-5F1AA62C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749C-7521-4FE6-BD9B-31D6FC30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D04B-EB00-478C-90A3-95544C84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4AB7-7776-45B4-9C7E-5FD331AB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847C-823C-42F1-9DE7-F78AA38C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940B-732D-4407-B10B-18769FD9E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es salutations et la pré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ire bonj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187280" y="1773360"/>
            <a:ext cx="1781280" cy="2571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87280" y="4292640"/>
            <a:ext cx="1511640" cy="22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onj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aludo estándar formal, entre desconocidos o conocidos que siguen un protocolo. También se emplea entre conocidos como “Buenos día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580000" y="1773360"/>
          <a:ext cx="2200320" cy="180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0000" y="1773360"/>
                    <a:ext cx="2200320" cy="18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6084720" y="3860640"/>
            <a:ext cx="1152720" cy="20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al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aludo informal entre amigos y familiares. También se puede usar como despedi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es salutations du j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03280" y="1773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56000" y="1773360"/>
            <a:ext cx="1008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59280" y="1989000"/>
            <a:ext cx="3816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7002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onj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03280" y="263700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: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56000" y="2637000"/>
            <a:ext cx="1008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00720" y="2492280"/>
            <a:ext cx="302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on après-midi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aunque lo más usual es bonjo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3860640"/>
            <a:ext cx="10080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56000" y="3860640"/>
            <a:ext cx="10080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00720" y="378936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onso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6920" y="4869000"/>
            <a:ext cx="33847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ando voy a dorm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494172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onne n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5877000"/>
            <a:ext cx="7490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tos son los principales saludos en francés. Por supuesto las horas son aproximadas.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Bon après-midi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no se suele usar.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Bonne nuit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es solo cuando me despido hasta el día siguient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n la práctica funcionan con “bonjour” casi todo el día, aunque depende de las regio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t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mment allez-vous?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 utiliza en las conversaciones form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0066"/>
                </a:solidFill>
                <a:latin typeface="Arial"/>
              </a:rPr>
              <a:t>¿Cómo está us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Respue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ès bien, merci. Et v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ff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66"/>
                </a:solidFill>
                <a:latin typeface="Arial"/>
              </a:rPr>
              <a:t>Muy bien, gracias. ¿Y us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Je ne vais pas mal, merci. Et v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ff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66"/>
                </a:solidFill>
                <a:latin typeface="Arial"/>
              </a:rPr>
              <a:t>No voy mal, gracias. ¿Y us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Je ne vais pas très bien, merci. Et v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ff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66"/>
                </a:solidFill>
                <a:latin typeface="Arial"/>
              </a:rPr>
              <a:t>No voy bien, gracias. ¿Y us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tal?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Ça va? / Comment ça va?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 utiliza en las conversaciones inform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0066"/>
                </a:solidFill>
                <a:latin typeface="Arial"/>
              </a:rPr>
              <a:t>¿Qué tal? / ¿Cómo v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Respuest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Ça va) très bien, merci. Et to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66"/>
                </a:solidFill>
                <a:latin typeface="Arial"/>
              </a:rPr>
              <a:t>Muy bien, gracias. ¿Y t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Ça va, merci. Et toi? / (Ça va) bien, merci. Et to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66"/>
                </a:solidFill>
                <a:latin typeface="Arial"/>
              </a:rPr>
              <a:t>Bien, gracias. ¿Y t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Ça va) pas mal, merci. Et to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66"/>
                </a:solidFill>
                <a:latin typeface="Arial"/>
              </a:rPr>
              <a:t>No va mal, gracias. ¿Y t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Ça va) mal / très mal, merci. Et to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66"/>
                </a:solidFill>
                <a:latin typeface="Arial"/>
              </a:rPr>
              <a:t>Mal / muy mal, gracias. ¿Y t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ire au revo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093080" y="333360"/>
          <a:ext cx="1162080" cy="102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93080" y="333360"/>
                    <a:ext cx="116208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042920" y="1484280"/>
            <a:ext cx="7274160" cy="51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Adiós</a:t>
            </a: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u revoir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Despedida estándar y más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orm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alut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Despedida más inform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Hasta lueg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À bientô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Hasta pront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Hasta mañan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À de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Hasta el lun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À lun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Buen fin de seman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on week-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40360" y="2997360"/>
            <a:ext cx="71280" cy="1079280"/>
          </a:xfrm>
          <a:custGeom>
            <a:avLst/>
            <a:gdLst>
              <a:gd name="textAreaLeft" fmla="*/ 0 w 71280"/>
              <a:gd name="textAreaRight" fmla="*/ 25560 w 7128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e prés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Bonjour, je m’appelle Je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t toi, comment tu t’appel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onjour, je m’appelle Mar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chant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chanté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Buenos días, me llamo Je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Y tú, ¿cómo te llam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Buenos días, me llamo Mar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Encant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Encant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e prés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268360" y="1628640"/>
          <a:ext cx="4969080" cy="386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1628640"/>
                    <a:ext cx="4969080" cy="386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179280" y="836640"/>
            <a:ext cx="2305080" cy="1152360"/>
          </a:xfrm>
          <a:prstGeom prst="wedgeEllipseCallout">
            <a:avLst>
              <a:gd name="adj1" fmla="val 46143"/>
              <a:gd name="adj2" fmla="val 763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Bonjour, je m’appelle Jea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2781360"/>
            <a:ext cx="2017440" cy="863640"/>
          </a:xfrm>
          <a:prstGeom prst="wedgeRoundRectCallout">
            <a:avLst>
              <a:gd name="adj1" fmla="val 58810"/>
              <a:gd name="adj2" fmla="val -3676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t toi, comment tu t’appell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77080" y="981000"/>
            <a:ext cx="1871640" cy="1152720"/>
          </a:xfrm>
          <a:prstGeom prst="wedgeRoundRectCallout">
            <a:avLst>
              <a:gd name="adj1" fmla="val -44486"/>
              <a:gd name="adj2" fmla="val 6997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Bonjour, je m’appelle Ma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164360" y="2421000"/>
            <a:ext cx="1584360" cy="792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chanté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95640" y="1197000"/>
            <a:ext cx="2016360" cy="5763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chan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000"/>
                            </p:stCondLst>
                            <p:childTnLst>
                              <p:par>
                                <p:cTn id="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70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aire la pré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onjour, je m’appelle Marie. J’ai 30 ans. J’habite à Grenade, je suis espagno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Je suis professeur de langue frança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J’aime lire, aller au cinéma, voyager et faire du s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Buenos días, me llamo Maria. Tengo 30 años. Vivo en Granada, soy españo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Soy profesora de lengua france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Me gusta leer, ir al cine, viajar y hacer depor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9:28:10Z</dcterms:created>
  <dc:creator> </dc:creator>
  <dc:description/>
  <dc:language>en-US</dc:language>
  <cp:lastModifiedBy> </cp:lastModifiedBy>
  <dcterms:modified xsi:type="dcterms:W3CDTF">2014-11-16T08:16:26Z</dcterms:modified>
  <cp:revision>7</cp:revision>
  <dc:subject/>
  <dc:title>Les salutations et la présentation</dc:title>
</cp:coreProperties>
</file>